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58C-3344-4B15-8A34-D1D466B0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88F-A9C1-4DF8-AA1A-AD3AC34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51C-3224-46EE-81C1-B5C07171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E97-AAC0-4294-B109-13E22E2E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E77-3C4F-4F2D-9181-0FA7D0C3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685-A3F8-4A65-BD36-B1C22FE8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EF7-C8C6-4DB5-BB7E-75A8EF2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6ED-D15D-4D72-BF65-31194AEA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3A3-6682-495A-ABF2-6ED9A62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3F5-CF68-4D66-85D4-EDF91E6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2BF-3718-4FB1-8E24-B64650A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039-061B-4FFB-8E70-EE55D03B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8D2-BBCB-4E94-8EBA-A428E14E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44280"/>
            <a:ext cx="4608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28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тръпне в красо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ивно еква песен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дома чезне облак л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мир владее и усмих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живот щастлив е, т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0072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в най-беден скромен до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уй се радостен псалом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астие всякъде трепти, сладост всичко ни шеп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роза в бурени цъф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8320" y="503280"/>
            <a:ext cx="2894040" cy="4365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4211640" y="2060640"/>
            <a:ext cx="4465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радва се и смей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доволство там владей,                     де любов цари!                                         Сладко пей планински вир               и усмихва се безспир синята безмерна шир,                 де любов цар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1:04:33Z</dcterms:created>
  <dc:creator>TrifonTrifonow</dc:creator>
  <dc:description/>
  <dc:language>en-US</dc:language>
  <cp:lastModifiedBy>TrifonTrifonow</cp:lastModifiedBy>
  <dcterms:modified xsi:type="dcterms:W3CDTF">2005-12-14T21:35:46Z</dcterms:modified>
  <cp:revision>10</cp:revision>
  <dc:subject/>
  <dc:title>Slide 1</dc:title>
</cp:coreProperties>
</file>